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A382-40DB-400E-B0BC-39CFA969D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EE6B-0AA3-4DAD-941C-E307B4523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6EB7-5A2A-4D23-89F3-4BBA288F7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0BAC-0611-4CAB-A6F3-F7E8C2AC8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4696-A1AE-4824-9D27-26F9882B6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4511-AC73-41DD-8162-281FA1225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F452-FEED-434E-9F19-C5C8D40B0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7260-3F04-4601-930D-75ED53D1A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9334-1519-4CA8-84E6-D24F15514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1C27-1E85-4DF2-A3F5-342C911AD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0ED1-2AE3-4AC8-A9FC-4E5482C13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8122-991E-4022-9FE9-401FB6A60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47A4E-9EA3-4761-88A5-A29F20B300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ANd9GcS4cIkm96LZt4P1J1ZqehV5nEPqhjlQ7L0Op-Nm4vEDvNI574nzrQ"/>
          <p:cNvPicPr/>
          <p:nvPr/>
        </p:nvPicPr>
        <p:blipFill>
          <a:blip r:embed="rId1"/>
          <a:stretch/>
        </p:blipFill>
        <p:spPr>
          <a:xfrm>
            <a:off x="-1066680" y="0"/>
            <a:ext cx="106678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00"/>
                </a:solidFill>
                <a:latin typeface="Arial"/>
              </a:rPr>
              <a:t>Univer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6" descr="planets_shirt_2_large(1)"/>
          <p:cNvPicPr/>
          <p:nvPr/>
        </p:nvPicPr>
        <p:blipFill>
          <a:blip r:embed="rId1"/>
          <a:stretch/>
        </p:blipFill>
        <p:spPr>
          <a:xfrm>
            <a:off x="0" y="-1469880"/>
            <a:ext cx="9144000" cy="832788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9933"/>
                </a:solidFill>
                <a:latin typeface="Arial"/>
              </a:rPr>
              <a:t>2 factors that determine how planets diff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6"/>
          <p:cNvSpPr/>
          <p:nvPr/>
        </p:nvSpPr>
        <p:spPr>
          <a:xfrm>
            <a:off x="81000" y="46080"/>
            <a:ext cx="2238480" cy="20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8"/>
          <p:cNvSpPr/>
          <p:nvPr/>
        </p:nvSpPr>
        <p:spPr>
          <a:xfrm>
            <a:off x="81000" y="46080"/>
            <a:ext cx="2238480" cy="20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10"/>
          <p:cNvSpPr/>
          <p:nvPr/>
        </p:nvSpPr>
        <p:spPr>
          <a:xfrm>
            <a:off x="81000" y="46080"/>
            <a:ext cx="1762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12"/>
          <p:cNvSpPr/>
          <p:nvPr/>
        </p:nvSpPr>
        <p:spPr>
          <a:xfrm>
            <a:off x="81000" y="46080"/>
            <a:ext cx="1762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14"/>
          <p:cNvSpPr/>
          <p:nvPr/>
        </p:nvSpPr>
        <p:spPr>
          <a:xfrm>
            <a:off x="81000" y="46080"/>
            <a:ext cx="1762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ANd9GcTRTdxTwZwEYypnaY9Up7vImyURHClffoTXUuo_SD7K3g-gwioP"/>
          <p:cNvPicPr/>
          <p:nvPr/>
        </p:nvPicPr>
        <p:blipFill>
          <a:blip r:embed="rId1"/>
          <a:stretch/>
        </p:blipFill>
        <p:spPr>
          <a:xfrm>
            <a:off x="0" y="-1508040"/>
            <a:ext cx="9144000" cy="836604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Light-ye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5" descr="ANd9GcRhH3_vs22KzVr3CAWWoqlk9JcWSd4_UHOnVEhn4QSJfRipaeJ1"/>
          <p:cNvPicPr/>
          <p:nvPr/>
        </p:nvPicPr>
        <p:blipFill>
          <a:blip r:embed="rId1"/>
          <a:stretch/>
        </p:blipFill>
        <p:spPr>
          <a:xfrm>
            <a:off x="-304920" y="-2057400"/>
            <a:ext cx="9448920" cy="944892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Arial"/>
              </a:rPr>
              <a:t>Life cycle of a mid-st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5" descr="ANd9GcQVfNQ0j7FMTpE5qz0BfR88atJfn2Uv7jABw6LQc_L32TOWKnYY"/>
          <p:cNvPicPr/>
          <p:nvPr/>
        </p:nvPicPr>
        <p:blipFill>
          <a:blip r:embed="rId1"/>
          <a:stretch/>
        </p:blipFill>
        <p:spPr>
          <a:xfrm>
            <a:off x="0" y="0"/>
            <a:ext cx="9220320" cy="688032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onstel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ANd9GcSiR9ziBA1DNA9xRJufGraTBTmOFmQnwcKJfhXy-NaLYTDdFDL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facts bout the Su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ANd9GcRubJ1l2VoGmDRyPsJ6RUWTPtCodMnBXTmpkhUicR1Tue6MyzY6gWBSsu7ZDQ"/>
          <p:cNvPicPr/>
          <p:nvPr/>
        </p:nvPicPr>
        <p:blipFill>
          <a:blip r:embed="rId1"/>
          <a:stretch/>
        </p:blipFill>
        <p:spPr>
          <a:xfrm>
            <a:off x="-838080" y="203040"/>
            <a:ext cx="9982080" cy="66549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9999"/>
                </a:solidFill>
                <a:latin typeface="Arial"/>
              </a:rPr>
              <a:t>two ways the moon mo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5" descr="ANd9GcRCSMQfNCZWIi4bFskqkQ0zUyTbkjn_IX7HgTLzF8N4Ph1pa5LI"/>
          <p:cNvPicPr/>
          <p:nvPr/>
        </p:nvPicPr>
        <p:blipFill>
          <a:blip r:embed="rId1"/>
          <a:stretch/>
        </p:blipFill>
        <p:spPr>
          <a:xfrm>
            <a:off x="0" y="0"/>
            <a:ext cx="9144000" cy="79246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Causes of night and day on ear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ANd9GcR_wolEI6E5DoLwQ9wkO0A0AoXNvkVQvicoD9q50jTKltq6WPACmQ"/>
          <p:cNvPicPr/>
          <p:nvPr/>
        </p:nvPicPr>
        <p:blipFill>
          <a:blip r:embed="rId1"/>
          <a:stretch/>
        </p:blipFill>
        <p:spPr>
          <a:xfrm>
            <a:off x="0" y="-2133720"/>
            <a:ext cx="9372600" cy="112777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Causes of the seas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ANd9GcSlMYp3rgh-FRKHsTEr2kzNdok6zAyrtGaMuGBxkckFXpjsKw9g"/>
          <p:cNvPicPr/>
          <p:nvPr/>
        </p:nvPicPr>
        <p:blipFill>
          <a:blip r:embed="rId1"/>
          <a:stretch/>
        </p:blipFill>
        <p:spPr>
          <a:xfrm>
            <a:off x="0" y="936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9933"/>
                </a:solidFill>
                <a:latin typeface="Arial"/>
              </a:rPr>
              <a:t>Solar eclip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ANd9GcSOTj9P0Y2CstJmeQavkDOF1sv4K81yQ9uHSKgK5n2Gcy8AWM09NA"/>
          <p:cNvPicPr/>
          <p:nvPr/>
        </p:nvPicPr>
        <p:blipFill>
          <a:blip r:embed="rId1"/>
          <a:stretch/>
        </p:blipFill>
        <p:spPr>
          <a:xfrm>
            <a:off x="0" y="0"/>
            <a:ext cx="9982080" cy="691344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Arial"/>
              </a:rPr>
              <a:t>Galax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ANd9GcQmcgQwn8n-MSMk-fah0bN7EJA6ggp6Dnizj-XhogYYsWixc4mT"/>
          <p:cNvPicPr/>
          <p:nvPr/>
        </p:nvPicPr>
        <p:blipFill>
          <a:blip r:embed="rId1"/>
          <a:stretch/>
        </p:blipFill>
        <p:spPr>
          <a:xfrm>
            <a:off x="0" y="235080"/>
            <a:ext cx="9144000" cy="6615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Our galax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ANd9GcTwTRom97mZkMoA86pQKzXLuEHol21hHBhfEitpLo9Tp_9Wacfrlg"/>
          <p:cNvPicPr/>
          <p:nvPr/>
        </p:nvPicPr>
        <p:blipFill>
          <a:blip r:embed="rId1"/>
          <a:stretch/>
        </p:blipFill>
        <p:spPr>
          <a:xfrm>
            <a:off x="0" y="-1781280"/>
            <a:ext cx="9144000" cy="909324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Arial"/>
              </a:rPr>
              <a:t>Paths of asteroids and comet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9T17:15:34Z</dcterms:created>
  <dc:creator>Franklin Township School</dc:creator>
  <dc:description/>
  <dc:language>en-US</dc:language>
  <cp:lastModifiedBy>Owner</cp:lastModifiedBy>
  <dcterms:modified xsi:type="dcterms:W3CDTF">2011-05-17T18:50:56Z</dcterms:modified>
  <cp:revision>6</cp:revision>
  <dc:subject/>
  <dc:title>Slide 1</dc:title>
</cp:coreProperties>
</file>